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5.png" ContentType="image/png"/>
  <Override PartName="/ppt/media/image12.gif" ContentType="image/gif"/>
  <Override PartName="/ppt/media/image11.png" ContentType="image/png"/>
  <Override PartName="/ppt/media/image35.png" ContentType="image/png"/>
  <Override PartName="/ppt/media/image38.gif" ContentType="image/gif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gif" ContentType="image/gif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102-0C6C-4386-A6EE-62DF9480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607-1EA1-4063-9422-519A4BA8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588-9521-470D-B41B-0A5FAFE7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8BC-2FF2-4D96-9803-7F1A39A5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887-FBD4-4C56-B0BF-A3CD6602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D36-C789-4EC7-B500-71BD26D5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892-9432-4E41-B5B9-A6657EAC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61F-EC22-44E3-AA33-27AA8A31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05C-9B7B-4DDE-B5A0-A4A832FF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FF6-14E9-4527-8991-92B1312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2D8-C1D8-407D-8EAD-7C848BD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48C-FD17-4417-87C8-9F1F143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2D15-5976-4E8E-AA4F-00EE33BD0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566640" y="2494080"/>
            <a:ext cx="8583840" cy="1004760"/>
            <a:chOff x="566640" y="2494080"/>
            <a:chExt cx="8583840" cy="100476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66640" y="2494080"/>
              <a:ext cx="85838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71680" y="2500200"/>
              <a:ext cx="85723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 baseline="30000">
                  <a:solidFill>
                    <a:srgbClr val="000000"/>
                  </a:solidFill>
                  <a:latin typeface="Bookman Old Style"/>
                </a:rPr>
                <a:t>«В математике есть своя красота,</a:t>
              </a:r>
              <a:br>
                <a:rPr sz="4000"/>
              </a:br>
              <a:r>
                <a:rPr b="0" i="1" lang="ru-RU" sz="4000" spc="-1" strike="noStrike" baseline="30000">
                  <a:solidFill>
                    <a:srgbClr val="000000"/>
                  </a:solidFill>
                  <a:latin typeface="Bookman Old Style"/>
                </a:rPr>
                <a:t>как в живописи и поэзии».</a:t>
              </a:r>
              <a:br>
                <a:rPr sz="4000"/>
              </a:br>
              <a:r>
                <a:rPr b="0" i="1" lang="ru-RU" sz="4000" spc="-1" strike="noStrike" baseline="30000">
                  <a:solidFill>
                    <a:srgbClr val="000000"/>
                  </a:solidFill>
                  <a:latin typeface="Bookman Old Style"/>
                </a:rPr>
                <a:t>Н. Е. Жуковский</a:t>
              </a:r>
              <a:r>
                <a:rPr b="0" i="1" lang="ru-RU" sz="4400" spc="-1" strike="noStrike" baseline="30000">
                  <a:solidFill>
                    <a:srgbClr val="000000"/>
                  </a:solidFill>
                  <a:latin typeface="Bookman Old Style"/>
                </a:rPr>
                <a:t>.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одзаголовок 2"/>
          <p:cNvGrpSpPr/>
          <p:nvPr/>
        </p:nvGrpSpPr>
        <p:grpSpPr>
          <a:xfrm>
            <a:off x="633240" y="633240"/>
            <a:ext cx="8089920" cy="1768680"/>
            <a:chOff x="633240" y="633240"/>
            <a:chExt cx="8089920" cy="1768680"/>
          </a:xfrm>
        </p:grpSpPr>
        <p:pic>
          <p:nvPicPr>
            <p:cNvPr id="4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633240" y="633240"/>
              <a:ext cx="808992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42960" y="642960"/>
              <a:ext cx="8072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36122"/>
                  </a:solidFill>
                  <a:latin typeface="Monotype Corsiva"/>
                </a:rPr>
                <a:t>«</a:t>
              </a:r>
              <a:r>
                <a:rPr b="0" i="1" lang="ru-RU" sz="7200" spc="-1" strike="noStrike">
                  <a:solidFill>
                    <a:srgbClr val="036122"/>
                  </a:solidFill>
                  <a:latin typeface="Monotype Corsiva"/>
                </a:rPr>
                <a:t>Делимость</a:t>
              </a:r>
              <a:r>
                <a:rPr b="0" i="1" lang="ru-RU" sz="5400" spc="-1" strike="noStrike">
                  <a:solidFill>
                    <a:srgbClr val="036122"/>
                  </a:solidFill>
                  <a:latin typeface="Monotype Corsiva"/>
                </a:rPr>
                <a:t> </a:t>
              </a:r>
              <a:r>
                <a:rPr b="0" i="1" lang="en-US" sz="5400" spc="-1" strike="noStrike">
                  <a:solidFill>
                    <a:srgbClr val="036122"/>
                  </a:solidFill>
                  <a:latin typeface="Monotype Corsiva"/>
                </a:rPr>
                <a:t> </a:t>
              </a:r>
              <a:r>
                <a:rPr b="0" i="1" lang="ru-RU" sz="7200" spc="-1" strike="noStrike">
                  <a:solidFill>
                    <a:srgbClr val="036122"/>
                  </a:solidFill>
                  <a:latin typeface="Monotype Corsiva"/>
                </a:rPr>
                <a:t>чисел»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Rectangle 1" descr=""/>
          <p:cNvPicPr/>
          <p:nvPr/>
        </p:nvPicPr>
        <p:blipFill>
          <a:blip r:embed="rId3"/>
          <a:stretch/>
        </p:blipFill>
        <p:spPr>
          <a:xfrm>
            <a:off x="-566640" y="3029040"/>
            <a:ext cx="8418240" cy="4249800"/>
          </a:xfrm>
          <a:prstGeom prst="rect">
            <a:avLst/>
          </a:prstGeom>
          <a:ln w="0">
            <a:noFill/>
          </a:ln>
        </p:spPr>
      </p:pic>
      <p:grpSp>
        <p:nvGrpSpPr>
          <p:cNvPr id="48" name="Прямоугольник 4"/>
          <p:cNvGrpSpPr/>
          <p:nvPr/>
        </p:nvGrpSpPr>
        <p:grpSpPr>
          <a:xfrm>
            <a:off x="7589880" y="5851440"/>
            <a:ext cx="1424160" cy="598680"/>
            <a:chOff x="7589880" y="5851440"/>
            <a:chExt cx="1424160" cy="598680"/>
          </a:xfrm>
        </p:grpSpPr>
        <p:pic>
          <p:nvPicPr>
            <p:cNvPr id="49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7711920" y="5851440"/>
              <a:ext cx="118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589880" y="5857920"/>
              <a:ext cx="142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660066"/>
                  </a:solidFill>
                  <a:latin typeface="Monotype Corsiva"/>
                </a:rPr>
                <a:t>5клас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Рисунок 5" descr="2e1fb996251761703e4d9600d60253f0.gif"/>
          <p:cNvPicPr/>
          <p:nvPr/>
        </p:nvPicPr>
        <p:blipFill>
          <a:blip r:embed="rId5"/>
          <a:stretch/>
        </p:blipFill>
        <p:spPr>
          <a:xfrm>
            <a:off x="4429080" y="4714920"/>
            <a:ext cx="314316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6"/>
          <p:cNvSpPr/>
          <p:nvPr/>
        </p:nvSpPr>
        <p:spPr>
          <a:xfrm>
            <a:off x="4071960" y="6492960"/>
            <a:ext cx="607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011г.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Долгалёва Н.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12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800"/>
              </a:br>
              <a:br>
                <a:rPr sz="4800"/>
              </a:br>
              <a:r>
                <a:rPr b="1" i="1" lang="ru-RU" sz="4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СОВЕТ </a:t>
              </a:r>
              <a:r>
                <a:rPr b="1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9:</a:t>
              </a:r>
              <a:r>
                <a:rPr b="0" i="1" lang="ru-RU" sz="4000" spc="-1" strike="noStrike" baseline="30000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6600" spc="-1" strike="noStrike" baseline="30000">
                  <a:solidFill>
                    <a:srgbClr val="000000"/>
                  </a:solidFill>
                  <a:latin typeface="Monotype Corsiva"/>
                </a:rPr>
                <a:t>«Воспринимайте математические примеры как игру».</a:t>
              </a:r>
              <a:br>
                <a:rPr sz="4000"/>
              </a:b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одержимое 2"/>
          <p:cNvGrpSpPr/>
          <p:nvPr/>
        </p:nvGrpSpPr>
        <p:grpSpPr>
          <a:xfrm>
            <a:off x="231840" y="1225440"/>
            <a:ext cx="8478720" cy="1096920"/>
            <a:chOff x="231840" y="1225440"/>
            <a:chExt cx="8478720" cy="1096920"/>
          </a:xfrm>
        </p:grpSpPr>
        <p:pic>
          <p:nvPicPr>
            <p:cNvPr id="13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31840" y="1225440"/>
              <a:ext cx="84787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57120" y="150012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001"/>
                </a:spcBef>
                <a:buClr>
                  <a:srgbClr val="03612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Monotype Corsiva"/>
                </a:rPr>
                <a:t>«Поиск клада»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3"/>
              <p:cNvSpPr txBox="1"/>
              <p:nvPr/>
            </p:nvSpPr>
            <p:spPr>
              <a:xfrm>
                <a:off x="142920" y="2214720"/>
                <a:ext cx="1074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Rectangle 35"/>
          <p:cNvSpPr/>
          <p:nvPr/>
        </p:nvSpPr>
        <p:spPr>
          <a:xfrm flipV="1" rot="10800000">
            <a:off x="1142640" y="22168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 flipH="1">
            <a:off x="1357200" y="2857680"/>
            <a:ext cx="285840" cy="428400"/>
          </a:xfrm>
          <a:prstGeom prst="line">
            <a:avLst/>
          </a:prstGeom>
          <a:ln w="28440">
            <a:solidFill>
              <a:srgbClr val="a6a6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6"/>
          <p:cNvSpPr/>
          <p:nvPr/>
        </p:nvSpPr>
        <p:spPr>
          <a:xfrm>
            <a:off x="10800" y="3071880"/>
            <a:ext cx="294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 (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75)= </a:t>
            </a:r>
            <a:r>
              <a:rPr b="1" i="1" lang="ru-RU" sz="4000" spc="-1" strike="noStrike">
                <a:solidFill>
                  <a:srgbClr val="036122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7"/>
          <p:cNvSpPr/>
          <p:nvPr/>
        </p:nvSpPr>
        <p:spPr>
          <a:xfrm>
            <a:off x="0" y="3857760"/>
            <a:ext cx="29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(72; </a:t>
            </a:r>
            <a:r>
              <a:rPr b="1" i="1" lang="ru-RU" sz="4000" spc="-1" strike="noStrike">
                <a:solidFill>
                  <a:srgbClr val="036122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i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2071800" y="3643200"/>
            <a:ext cx="428400" cy="428760"/>
          </a:xfrm>
          <a:prstGeom prst="line">
            <a:avLst/>
          </a:prstGeom>
          <a:ln w="28440">
            <a:solidFill>
              <a:srgbClr val="a6a6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9"/>
          <p:cNvSpPr/>
          <p:nvPr/>
        </p:nvSpPr>
        <p:spPr>
          <a:xfrm>
            <a:off x="937080" y="4643280"/>
            <a:ext cx="16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=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8"/>
          <p:cNvSpPr/>
          <p:nvPr/>
        </p:nvSpPr>
        <p:spPr>
          <a:xfrm flipH="1">
            <a:off x="1214280" y="4429080"/>
            <a:ext cx="1128960" cy="428760"/>
          </a:xfrm>
          <a:prstGeom prst="line">
            <a:avLst/>
          </a:prstGeom>
          <a:ln w="28440">
            <a:solidFill>
              <a:srgbClr val="a6a6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39"/>
          <p:cNvGrpSpPr/>
          <p:nvPr/>
        </p:nvGrpSpPr>
        <p:grpSpPr>
          <a:xfrm>
            <a:off x="274680" y="5705640"/>
            <a:ext cx="2163600" cy="804600"/>
            <a:chOff x="274680" y="5705640"/>
            <a:chExt cx="2163600" cy="804600"/>
          </a:xfrm>
        </p:grpSpPr>
        <p:pic>
          <p:nvPicPr>
            <p:cNvPr id="144" name="Oval 39" descr=""/>
            <p:cNvPicPr/>
            <p:nvPr/>
          </p:nvPicPr>
          <p:blipFill>
            <a:blip r:embed="rId3"/>
            <a:stretch/>
          </p:blipFill>
          <p:spPr>
            <a:xfrm>
              <a:off x="274680" y="5705640"/>
              <a:ext cx="2163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00120" y="5830920"/>
              <a:ext cx="151452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Monotype Corsiva"/>
                </a:rPr>
                <a:t>Серебр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40"/>
          <p:cNvSpPr/>
          <p:nvPr/>
        </p:nvSpPr>
        <p:spPr>
          <a:xfrm flipH="1">
            <a:off x="1500120" y="5286240"/>
            <a:ext cx="571680" cy="500040"/>
          </a:xfrm>
          <a:prstGeom prst="line">
            <a:avLst/>
          </a:prstGeom>
          <a:ln w="28440">
            <a:solidFill>
              <a:srgbClr val="a6a6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1"/>
              <p:cNvSpPr txBox="1"/>
              <p:nvPr/>
            </p:nvSpPr>
            <p:spPr>
              <a:xfrm>
                <a:off x="3214800" y="2214720"/>
                <a:ext cx="13111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43"/>
          <p:cNvSpPr/>
          <p:nvPr/>
        </p:nvSpPr>
        <p:spPr>
          <a:xfrm flipV="1" rot="10800000">
            <a:off x="4429080" y="1962000"/>
            <a:ext cx="100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6"/>
          <p:cNvSpPr/>
          <p:nvPr/>
        </p:nvSpPr>
        <p:spPr>
          <a:xfrm>
            <a:off x="2869560" y="307188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 (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144)=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 flipH="1">
            <a:off x="4429080" y="2786040"/>
            <a:ext cx="357120" cy="428760"/>
          </a:xfrm>
          <a:prstGeom prst="line">
            <a:avLst/>
          </a:prstGeom>
          <a:ln w="28440">
            <a:solidFill>
              <a:srgbClr val="e6b9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8"/>
          <p:cNvSpPr/>
          <p:nvPr/>
        </p:nvSpPr>
        <p:spPr>
          <a:xfrm>
            <a:off x="2929320" y="3857760"/>
            <a:ext cx="31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(720;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7"/>
          <p:cNvSpPr/>
          <p:nvPr/>
        </p:nvSpPr>
        <p:spPr>
          <a:xfrm flipH="1">
            <a:off x="5143680" y="3643200"/>
            <a:ext cx="428400" cy="428760"/>
          </a:xfrm>
          <a:prstGeom prst="line">
            <a:avLst/>
          </a:prstGeom>
          <a:ln w="28440">
            <a:solidFill>
              <a:srgbClr val="e6b9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0"/>
          <p:cNvSpPr/>
          <p:nvPr/>
        </p:nvSpPr>
        <p:spPr>
          <a:xfrm>
            <a:off x="3864600" y="4643280"/>
            <a:ext cx="16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=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8"/>
          <p:cNvSpPr/>
          <p:nvPr/>
        </p:nvSpPr>
        <p:spPr>
          <a:xfrm flipH="1">
            <a:off x="4357440" y="4429080"/>
            <a:ext cx="1128600" cy="428760"/>
          </a:xfrm>
          <a:prstGeom prst="line">
            <a:avLst/>
          </a:prstGeom>
          <a:ln w="28440">
            <a:solidFill>
              <a:srgbClr val="e6b9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0"/>
          <p:cNvSpPr/>
          <p:nvPr/>
        </p:nvSpPr>
        <p:spPr>
          <a:xfrm flipH="1">
            <a:off x="4500360" y="5286240"/>
            <a:ext cx="571320" cy="500040"/>
          </a:xfrm>
          <a:prstGeom prst="line">
            <a:avLst/>
          </a:prstGeom>
          <a:ln w="28440">
            <a:solidFill>
              <a:srgbClr val="e6b9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Oval 39"/>
          <p:cNvGrpSpPr/>
          <p:nvPr/>
        </p:nvGrpSpPr>
        <p:grpSpPr>
          <a:xfrm>
            <a:off x="3200400" y="5705640"/>
            <a:ext cx="2170080" cy="804600"/>
            <a:chOff x="3200400" y="5705640"/>
            <a:chExt cx="2170080" cy="804600"/>
          </a:xfrm>
        </p:grpSpPr>
        <p:pic>
          <p:nvPicPr>
            <p:cNvPr id="158" name="Oval 39" descr=""/>
            <p:cNvPicPr/>
            <p:nvPr/>
          </p:nvPicPr>
          <p:blipFill>
            <a:blip r:embed="rId4"/>
            <a:stretch/>
          </p:blipFill>
          <p:spPr>
            <a:xfrm>
              <a:off x="3200400" y="5705640"/>
              <a:ext cx="217008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29080" y="5830920"/>
              <a:ext cx="151452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c000"/>
                  </a:solidFill>
                  <a:latin typeface="Monotype Corsiva"/>
                </a:rPr>
                <a:t>Золот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45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4"/>
              <p:cNvSpPr txBox="1"/>
              <p:nvPr/>
            </p:nvSpPr>
            <p:spPr>
              <a:xfrm>
                <a:off x="6357960" y="2286000"/>
                <a:ext cx="1428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Rectangle 46"/>
          <p:cNvSpPr/>
          <p:nvPr/>
        </p:nvSpPr>
        <p:spPr>
          <a:xfrm flipV="1" rot="10800000">
            <a:off x="7715160" y="198252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57"/>
          <p:cNvSpPr/>
          <p:nvPr/>
        </p:nvSpPr>
        <p:spPr>
          <a:xfrm>
            <a:off x="5891400" y="3071880"/>
            <a:ext cx="325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 (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1125)=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8"/>
          <p:cNvSpPr/>
          <p:nvPr/>
        </p:nvSpPr>
        <p:spPr>
          <a:xfrm>
            <a:off x="5929200" y="3857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(3500;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6357960" y="45741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7"/>
              <p:cNvSpPr txBox="1"/>
              <p:nvPr/>
            </p:nvSpPr>
            <p:spPr>
              <a:xfrm>
                <a:off x="6929280" y="4572000"/>
                <a:ext cx="846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Rectangle 49"/>
          <p:cNvSpPr/>
          <p:nvPr/>
        </p:nvSpPr>
        <p:spPr>
          <a:xfrm>
            <a:off x="7715160" y="4005000"/>
            <a:ext cx="14288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6"/>
          <p:cNvSpPr/>
          <p:nvPr/>
        </p:nvSpPr>
        <p:spPr>
          <a:xfrm flipH="1">
            <a:off x="7429680" y="2857680"/>
            <a:ext cx="714240" cy="428400"/>
          </a:xfrm>
          <a:prstGeom prst="line">
            <a:avLst/>
          </a:prstGeom>
          <a:ln w="28440">
            <a:solidFill>
              <a:srgbClr val="f2f2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7"/>
          <p:cNvSpPr/>
          <p:nvPr/>
        </p:nvSpPr>
        <p:spPr>
          <a:xfrm flipH="1">
            <a:off x="8286840" y="3643200"/>
            <a:ext cx="428400" cy="428760"/>
          </a:xfrm>
          <a:prstGeom prst="line">
            <a:avLst/>
          </a:prstGeom>
          <a:ln w="28440">
            <a:solidFill>
              <a:srgbClr val="f2f2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8"/>
          <p:cNvSpPr/>
          <p:nvPr/>
        </p:nvSpPr>
        <p:spPr>
          <a:xfrm flipH="1">
            <a:off x="6858000" y="4429080"/>
            <a:ext cx="1843200" cy="357120"/>
          </a:xfrm>
          <a:prstGeom prst="line">
            <a:avLst/>
          </a:prstGeom>
          <a:ln w="28440">
            <a:solidFill>
              <a:srgbClr val="f2f2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Oval 39"/>
          <p:cNvGrpSpPr/>
          <p:nvPr/>
        </p:nvGrpSpPr>
        <p:grpSpPr>
          <a:xfrm>
            <a:off x="5486400" y="5632560"/>
            <a:ext cx="3670200" cy="811080"/>
            <a:chOff x="5486400" y="5632560"/>
            <a:chExt cx="3670200" cy="811080"/>
          </a:xfrm>
        </p:grpSpPr>
        <p:pic>
          <p:nvPicPr>
            <p:cNvPr id="172" name="Oval 39" descr=""/>
            <p:cNvPicPr/>
            <p:nvPr/>
          </p:nvPicPr>
          <p:blipFill>
            <a:blip r:embed="rId5"/>
            <a:stretch/>
          </p:blipFill>
          <p:spPr>
            <a:xfrm>
              <a:off x="5486400" y="5632560"/>
              <a:ext cx="36702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033960" y="5759280"/>
              <a:ext cx="2576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4040"/>
                  </a:solidFill>
                  <a:latin typeface="Monotype Corsiva"/>
                </a:rPr>
                <a:t>Бриллиан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Рисунок 66" descr="construction08.gif"/>
          <p:cNvPicPr/>
          <p:nvPr/>
        </p:nvPicPr>
        <p:blipFill>
          <a:blip r:embed="rId6"/>
          <a:stretch/>
        </p:blipFill>
        <p:spPr>
          <a:xfrm>
            <a:off x="-142920" y="5072040"/>
            <a:ext cx="1209600" cy="9428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7" descr="construction08.gif"/>
          <p:cNvPicPr/>
          <p:nvPr/>
        </p:nvPicPr>
        <p:blipFill>
          <a:blip r:embed="rId7"/>
          <a:stretch/>
        </p:blipFill>
        <p:spPr>
          <a:xfrm>
            <a:off x="2571840" y="5143680"/>
            <a:ext cx="1209600" cy="9428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8" descr="construction08.gif"/>
          <p:cNvPicPr/>
          <p:nvPr/>
        </p:nvPicPr>
        <p:blipFill>
          <a:blip r:embed="rId8"/>
          <a:stretch/>
        </p:blipFill>
        <p:spPr>
          <a:xfrm>
            <a:off x="5643720" y="4929120"/>
            <a:ext cx="1209600" cy="9432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1"/>
          <p:cNvSpPr/>
          <p:nvPr/>
        </p:nvSpPr>
        <p:spPr>
          <a:xfrm>
            <a:off x="2785320" y="2286000"/>
            <a:ext cx="716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2"/>
          <p:cNvSpPr/>
          <p:nvPr/>
        </p:nvSpPr>
        <p:spPr>
          <a:xfrm>
            <a:off x="5928480" y="2286000"/>
            <a:ext cx="716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 flipH="1">
            <a:off x="4500360" y="5286240"/>
            <a:ext cx="571320" cy="500040"/>
          </a:xfrm>
          <a:prstGeom prst="line">
            <a:avLst/>
          </a:prstGeom>
          <a:ln w="28440">
            <a:solidFill>
              <a:srgbClr val="e6b9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0"/>
          <p:cNvSpPr/>
          <p:nvPr/>
        </p:nvSpPr>
        <p:spPr>
          <a:xfrm flipH="1">
            <a:off x="7500960" y="5143680"/>
            <a:ext cx="642960" cy="642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-146160" y="-6480"/>
            <a:ext cx="9509400" cy="939960"/>
            <a:chOff x="-146160" y="-6480"/>
            <a:chExt cx="9509400" cy="93996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46160" y="-6480"/>
              <a:ext cx="950940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142920" y="0"/>
              <a:ext cx="95011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6000"/>
              </a:br>
              <a:br>
                <a:rPr sz="6000"/>
              </a:br>
              <a:br>
                <a:rPr sz="6000"/>
              </a:br>
              <a:r>
                <a:rPr b="1" i="1" lang="en-US" sz="60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1" i="1" lang="ru-RU" sz="60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ОВЕТ </a:t>
              </a:r>
              <a:r>
                <a:rPr b="1" i="1" lang="ru-RU" sz="66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60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r>
                <a:rPr b="0" i="1" lang="ru-RU" sz="8800" spc="-1" strike="noStrike" baseline="30000">
                  <a:solidFill>
                    <a:srgbClr val="036122"/>
                  </a:solidFill>
                  <a:latin typeface="Monotype Corsiva"/>
                </a:rPr>
                <a:t>«Настройтесь на успех»</a:t>
              </a:r>
              <a:br>
                <a:rPr sz="8800"/>
              </a:b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Содержимое 2"/>
          <p:cNvGrpSpPr/>
          <p:nvPr/>
        </p:nvGrpSpPr>
        <p:grpSpPr>
          <a:xfrm>
            <a:off x="274680" y="847800"/>
            <a:ext cx="8534520" cy="6375240"/>
            <a:chOff x="274680" y="847800"/>
            <a:chExt cx="8534520" cy="6375240"/>
          </a:xfrm>
        </p:grpSpPr>
        <p:pic>
          <p:nvPicPr>
            <p:cNvPr id="5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74680" y="847800"/>
              <a:ext cx="8534520" cy="63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28760" y="1000080"/>
              <a:ext cx="8229600" cy="60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7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VII</a:t>
              </a:r>
              <a:r>
                <a:rPr b="0" lang="pl-PL" sz="7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ое число записано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стое оно или составное?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полнить его до 100.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вать делители этого числа.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полнить данное число до квадрата числа 7.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вать 3 кратных числа для него.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вать числа, расположенные на числово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уче левее этого числа на 3 ед.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вать число в 5 раз большее.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ff9900"/>
                </a:buClr>
                <a:buSzPct val="91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му равен его квадрат?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Рисунок 3" descr="b371cc3d8fb220b5182f7dfe935ac9c2.gif"/>
          <p:cNvPicPr/>
          <p:nvPr/>
        </p:nvPicPr>
        <p:blipFill>
          <a:blip r:embed="rId3"/>
          <a:stretch/>
        </p:blipFill>
        <p:spPr>
          <a:xfrm>
            <a:off x="7199280" y="5194440"/>
            <a:ext cx="1816200" cy="167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Заголовок 1"/>
          <p:cNvGrpSpPr/>
          <p:nvPr/>
        </p:nvGrpSpPr>
        <p:grpSpPr>
          <a:xfrm>
            <a:off x="-6480" y="-6480"/>
            <a:ext cx="9156960" cy="1298880"/>
            <a:chOff x="-6480" y="-6480"/>
            <a:chExt cx="9156960" cy="1298880"/>
          </a:xfrm>
        </p:grpSpPr>
        <p:pic>
          <p:nvPicPr>
            <p:cNvPr id="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0" y="0"/>
              <a:ext cx="9144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400"/>
              </a:br>
              <a:r>
                <a:rPr b="1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СОВЕТ</a:t>
              </a:r>
              <a:r>
                <a:rPr b="1" i="1" lang="ru-RU" sz="4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60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r>
                <a:rPr b="0" i="1" lang="ru-RU" sz="5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7200" spc="-1" strike="noStrike" baseline="30000">
                  <a:solidFill>
                    <a:srgbClr val="036122"/>
                  </a:solidFill>
                  <a:latin typeface="Monotype Corsiva"/>
                </a:rPr>
                <a:t>«Необходимо </a:t>
              </a:r>
              <a:br>
                <a:rPr sz="7200"/>
              </a:br>
              <a:r>
                <a:rPr b="0" i="1" lang="ru-RU" sz="7200" spc="-1" strike="noStrike" baseline="30000">
                  <a:solidFill>
                    <a:srgbClr val="036122"/>
                  </a:solidFill>
                  <a:latin typeface="Monotype Corsiva"/>
                </a:rPr>
                <a:t>хорошо понимать смысл правил»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одержимое 2"/>
          <p:cNvGrpSpPr/>
          <p:nvPr/>
        </p:nvGrpSpPr>
        <p:grpSpPr>
          <a:xfrm>
            <a:off x="560520" y="1206360"/>
            <a:ext cx="8388360" cy="841680"/>
            <a:chOff x="560520" y="1206360"/>
            <a:chExt cx="8388360" cy="841680"/>
          </a:xfrm>
        </p:grpSpPr>
        <p:pic>
          <p:nvPicPr>
            <p:cNvPr id="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560520" y="1206360"/>
              <a:ext cx="8388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2960" y="128592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Цифровой диктант: </a:t>
              </a:r>
              <a:r>
                <a:rPr b="0" lang="ru-RU" sz="3200" spc="-1" strike="noStrike">
                  <a:solidFill>
                    <a:srgbClr val="10253f"/>
                  </a:solidFill>
                  <a:latin typeface="Times New Roman"/>
                  <a:ea typeface="Times New Roman"/>
                </a:rPr>
                <a:t>истина(</a:t>
              </a:r>
              <a:r>
                <a:rPr b="1" lang="ru-RU" sz="32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3200" spc="-1" strike="noStrike">
                  <a:solidFill>
                    <a:srgbClr val="10253f"/>
                  </a:solidFill>
                  <a:latin typeface="Times New Roman"/>
                  <a:ea typeface="Times New Roman"/>
                </a:rPr>
                <a:t>),  ложь(</a:t>
              </a:r>
              <a:r>
                <a:rPr b="1" lang="ru-RU" sz="32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200" spc="-1" strike="noStrike">
                  <a:solidFill>
                    <a:srgbClr val="10253f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1"/>
          <p:cNvGrpSpPr/>
          <p:nvPr/>
        </p:nvGrpSpPr>
        <p:grpSpPr>
          <a:xfrm>
            <a:off x="231480" y="1579680"/>
            <a:ext cx="7244280" cy="5918040"/>
            <a:chOff x="231480" y="1579680"/>
            <a:chExt cx="7244280" cy="5918040"/>
          </a:xfrm>
        </p:grpSpPr>
        <p:pic>
          <p:nvPicPr>
            <p:cNvPr id="67" name="Rectangle 1" descr=""/>
            <p:cNvPicPr/>
            <p:nvPr/>
          </p:nvPicPr>
          <p:blipFill>
            <a:blip r:embed="rId3"/>
            <a:stretch/>
          </p:blipFill>
          <p:spPr>
            <a:xfrm>
              <a:off x="549360" y="1579680"/>
              <a:ext cx="6607080" cy="59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31480" y="1712160"/>
              <a:ext cx="7244280" cy="56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Число, кратное 25 делится на 5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Существуют числа, не имеющие кратных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126- делитель числа 6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18- делитель числа 432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183- простое число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15 и 18- взаимно простые числа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НОК(4;3)=24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Сумма двух нечетных чисел - четное число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30000">
                  <a:solidFill>
                    <a:srgbClr val="000000"/>
                  </a:solidFill>
                  <a:latin typeface="Monotype Corsiva"/>
                  <a:ea typeface="Times New Roman"/>
                </a:rPr>
                <a:t>НОД(12;18)=6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00ff"/>
                </a:buClr>
                <a:buFont typeface="Monotype Corsiva"/>
                <a:buChar char="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Рисунок 4" descr="печатающий_компьютер.gif"/>
          <p:cNvPicPr/>
          <p:nvPr/>
        </p:nvPicPr>
        <p:blipFill>
          <a:blip r:embed="rId4"/>
          <a:stretch/>
        </p:blipFill>
        <p:spPr>
          <a:xfrm>
            <a:off x="7215120" y="5286240"/>
            <a:ext cx="14288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70" name="Прямоугольник 5"/>
          <p:cNvGrpSpPr/>
          <p:nvPr/>
        </p:nvGrpSpPr>
        <p:grpSpPr>
          <a:xfrm>
            <a:off x="480960" y="2908440"/>
            <a:ext cx="8186760" cy="1908000"/>
            <a:chOff x="480960" y="2908440"/>
            <a:chExt cx="8186760" cy="1908000"/>
          </a:xfrm>
        </p:grpSpPr>
        <p:pic>
          <p:nvPicPr>
            <p:cNvPr id="71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480960" y="2908440"/>
              <a:ext cx="818676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0040" y="2928960"/>
              <a:ext cx="81439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100 101 01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Заголовок 1"/>
          <p:cNvGrpSpPr/>
          <p:nvPr/>
        </p:nvGrpSpPr>
        <p:grpSpPr>
          <a:xfrm>
            <a:off x="-219240" y="-6480"/>
            <a:ext cx="9369720" cy="1158840"/>
            <a:chOff x="-219240" y="-6480"/>
            <a:chExt cx="9369720" cy="1158840"/>
          </a:xfrm>
        </p:grpSpPr>
        <p:pic>
          <p:nvPicPr>
            <p:cNvPr id="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219240" y="-6480"/>
              <a:ext cx="93697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-214200" y="0"/>
              <a:ext cx="9358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400"/>
              </a:br>
              <a:br>
                <a:rPr sz="5400"/>
              </a:br>
              <a:r>
                <a:rPr b="1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СОВЕТ </a:t>
              </a:r>
              <a:r>
                <a:rPr b="1" i="1" lang="ru-RU" sz="60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0" i="1" lang="ru-RU" sz="60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r>
                <a:rPr b="0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br>
                <a:rPr sz="5400"/>
              </a:br>
              <a:r>
                <a:rPr b="0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7200" spc="-1" strike="noStrike" baseline="30000">
                  <a:solidFill>
                    <a:srgbClr val="036122"/>
                  </a:solidFill>
                  <a:latin typeface="Monotype Corsiva"/>
                </a:rPr>
                <a:t>«</a:t>
              </a:r>
              <a:r>
                <a:rPr b="0" i="1" lang="ru-RU" sz="8000" spc="-1" strike="noStrike" baseline="30000">
                  <a:solidFill>
                    <a:srgbClr val="036122"/>
                  </a:solidFill>
                  <a:latin typeface="Monotype Corsiva"/>
                </a:rPr>
                <a:t>Не ломайте голову в одиночестве».</a:t>
              </a:r>
              <a:br>
                <a:rPr sz="4800"/>
              </a:b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одержимое 2"/>
          <p:cNvGrpSpPr/>
          <p:nvPr/>
        </p:nvGrpSpPr>
        <p:grpSpPr>
          <a:xfrm>
            <a:off x="-79200" y="1706400"/>
            <a:ext cx="9302400" cy="4902480"/>
            <a:chOff x="-79200" y="1706400"/>
            <a:chExt cx="9302400" cy="4902480"/>
          </a:xfrm>
        </p:grpSpPr>
        <p:pic>
          <p:nvPicPr>
            <p:cNvPr id="7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79200" y="1706400"/>
              <a:ext cx="9302400" cy="490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0" y="1785960"/>
              <a:ext cx="9144000" cy="47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4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14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600" spc="-1" strike="noStrike" baseline="30000">
                  <a:solidFill>
                    <a:srgbClr val="632523"/>
                  </a:solidFill>
                  <a:latin typeface="Times New Roman"/>
                  <a:ea typeface="Times New Roman"/>
                </a:rPr>
                <a:t>Замените звездочки цифрами так, чтобы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7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256*</a:t>
              </a:r>
              <a:r>
                <a:rPr b="1" i="1" lang="ru-RU" sz="4000" spc="-1" strike="noStrike">
                  <a:solidFill>
                    <a:srgbClr val="000066"/>
                  </a:solidFill>
                  <a:latin typeface="Monotype Corsiva"/>
                  <a:ea typeface="Times New Roman"/>
                </a:rPr>
                <a:t>делилось на 2, но не делилось на 3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9600" spc="-1" strike="noStrike">
                  <a:solidFill>
                    <a:srgbClr val="036122"/>
                  </a:solidFill>
                  <a:latin typeface="Times New Roman"/>
                  <a:ea typeface="Times New Roman"/>
                </a:rPr>
                <a:t>681*</a:t>
              </a:r>
              <a:r>
                <a:rPr b="1" lang="ru-RU" sz="96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>
                  <a:solidFill>
                    <a:srgbClr val="000066"/>
                  </a:solidFill>
                  <a:latin typeface="Monotype Corsiva"/>
                  <a:ea typeface="Times New Roman"/>
                </a:rPr>
                <a:t>делилось на 5 и 6.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Рисунок 4" descr="baby01.gif"/>
          <p:cNvPicPr/>
          <p:nvPr/>
        </p:nvPicPr>
        <p:blipFill>
          <a:blip r:embed="rId3"/>
          <a:stretch/>
        </p:blipFill>
        <p:spPr>
          <a:xfrm>
            <a:off x="7643880" y="5076720"/>
            <a:ext cx="1500120" cy="1781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Заголовок 1"/>
          <p:cNvGrpSpPr/>
          <p:nvPr/>
        </p:nvGrpSpPr>
        <p:grpSpPr>
          <a:xfrm>
            <a:off x="353880" y="353880"/>
            <a:ext cx="8240760" cy="1150920"/>
            <a:chOff x="353880" y="353880"/>
            <a:chExt cx="8240760" cy="1150920"/>
          </a:xfrm>
        </p:grpSpPr>
        <p:pic>
          <p:nvPicPr>
            <p:cNvPr id="8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53880" y="353880"/>
              <a:ext cx="8240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7120" y="3571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СОВЕТ </a:t>
              </a:r>
              <a:r>
                <a:rPr b="1" i="1" lang="ru-RU" sz="60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i="1" lang="ru-RU" sz="8000" spc="-1" strike="noStrike" baseline="30000">
                  <a:solidFill>
                    <a:srgbClr val="ff0000"/>
                  </a:solidFill>
                  <a:latin typeface="Monotype Corsiva"/>
                  <a:ea typeface="Times New Roman"/>
                </a:rPr>
                <a:t>:</a:t>
              </a:r>
              <a:r>
                <a:rPr b="0" i="1" lang="ru-RU" sz="7200" spc="-1" strike="noStrike" baseline="30000">
                  <a:solidFill>
                    <a:srgbClr val="000000"/>
                  </a:solidFill>
                  <a:latin typeface="Monotype Corsiva"/>
                </a:rPr>
                <a:t> </a:t>
              </a:r>
              <a:br>
                <a:rPr sz="7200"/>
              </a:br>
              <a:r>
                <a:rPr b="1" i="1" lang="ru-RU" sz="6600" spc="-1" strike="noStrike" baseline="30000">
                  <a:solidFill>
                    <a:srgbClr val="036122"/>
                  </a:solidFill>
                  <a:latin typeface="Monotype Corsiva"/>
                </a:rPr>
                <a:t>«Внимательно слушайте задание»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Содержимое 2" descr=""/>
          <p:cNvPicPr/>
          <p:nvPr/>
        </p:nvPicPr>
        <p:blipFill>
          <a:blip r:embed="rId2"/>
          <a:stretch/>
        </p:blipFill>
        <p:spPr>
          <a:xfrm>
            <a:off x="-79200" y="1238400"/>
            <a:ext cx="9040680" cy="10020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пулеметчик.gif"/>
          <p:cNvPicPr/>
          <p:nvPr/>
        </p:nvPicPr>
        <p:blipFill>
          <a:blip r:embed="rId3"/>
          <a:stretch/>
        </p:blipFill>
        <p:spPr>
          <a:xfrm>
            <a:off x="781200" y="6188040"/>
            <a:ext cx="1249200" cy="676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пулеметчик.gif"/>
          <p:cNvPicPr/>
          <p:nvPr/>
        </p:nvPicPr>
        <p:blipFill>
          <a:blip r:embed="rId4"/>
          <a:stretch/>
        </p:blipFill>
        <p:spPr>
          <a:xfrm>
            <a:off x="7053120" y="6175440"/>
            <a:ext cx="1268640" cy="695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13.gif"/>
          <p:cNvPicPr/>
          <p:nvPr/>
        </p:nvPicPr>
        <p:blipFill>
          <a:blip r:embed="rId5"/>
          <a:stretch/>
        </p:blipFill>
        <p:spPr>
          <a:xfrm>
            <a:off x="0" y="5583240"/>
            <a:ext cx="785880" cy="1274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13.gif"/>
          <p:cNvPicPr/>
          <p:nvPr/>
        </p:nvPicPr>
        <p:blipFill>
          <a:blip r:embed="rId6"/>
          <a:stretch/>
        </p:blipFill>
        <p:spPr>
          <a:xfrm>
            <a:off x="8199360" y="5565600"/>
            <a:ext cx="816120" cy="1305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Заголовок 1"/>
          <p:cNvGrpSpPr/>
          <p:nvPr/>
        </p:nvGrpSpPr>
        <p:grpSpPr>
          <a:xfrm>
            <a:off x="-6480" y="341280"/>
            <a:ext cx="9156960" cy="1152720"/>
            <a:chOff x="-6480" y="341280"/>
            <a:chExt cx="9156960" cy="1152720"/>
          </a:xfrm>
        </p:grpSpPr>
        <p:pic>
          <p:nvPicPr>
            <p:cNvPr id="8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341280"/>
              <a:ext cx="91569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34596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ВЕТ 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r>
                <a:rPr b="0" i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: </a:t>
              </a:r>
              <a:r>
                <a:rPr b="0" i="1" lang="ru-RU" sz="4400" spc="-1" strike="noStrike">
                  <a:solidFill>
                    <a:srgbClr val="036122"/>
                  </a:solidFill>
                  <a:latin typeface="Monotype Corsiva"/>
                </a:rPr>
                <a:t>«Постоянно развивайте логическое мышление»</a:t>
              </a:r>
              <a:r>
                <a:rPr b="0" lang="ru-RU" sz="4400" spc="-1" strike="noStrike">
                  <a:solidFill>
                    <a:srgbClr val="036122"/>
                  </a:solidFill>
                  <a:latin typeface="Monotype Corsiva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одержимое 2"/>
          <p:cNvGrpSpPr/>
          <p:nvPr/>
        </p:nvGrpSpPr>
        <p:grpSpPr>
          <a:xfrm>
            <a:off x="-6480" y="1994040"/>
            <a:ext cx="9156960" cy="4539960"/>
            <a:chOff x="-6480" y="1994040"/>
            <a:chExt cx="9156960" cy="4539960"/>
          </a:xfrm>
        </p:grpSpPr>
        <p:pic>
          <p:nvPicPr>
            <p:cNvPr id="9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6480" y="1994040"/>
              <a:ext cx="9156960" cy="45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2000160"/>
              <a:ext cx="91440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100" spc="-1" strike="noStrike" baseline="30000">
                  <a:solidFill>
                    <a:srgbClr val="0d0d0d"/>
                  </a:solidFill>
                  <a:latin typeface="Monotype Corsiva"/>
                </a:rPr>
                <a:t>В</a:t>
              </a:r>
              <a:r>
                <a:rPr b="0" lang="ru-RU" sz="5400" spc="-1" strike="noStrike" baseline="30000">
                  <a:solidFill>
                    <a:srgbClr val="0d0d0d"/>
                  </a:solidFill>
                  <a:latin typeface="Monotype Corsiva"/>
                </a:rPr>
                <a:t> каждой цепочке 3 числа обладают общим</a:t>
              </a:r>
              <a:r>
                <a:rPr b="0" lang="ru-RU" sz="5400" spc="-1" strike="noStrike">
                  <a:solidFill>
                    <a:srgbClr val="0d0d0d"/>
                  </a:solidFill>
                  <a:latin typeface="Monotype Corsiva"/>
                </a:rPr>
                <a:t> </a:t>
              </a:r>
              <a:r>
                <a:rPr b="0" lang="ru-RU" sz="5400" spc="-1" strike="noStrike" baseline="30000">
                  <a:solidFill>
                    <a:srgbClr val="0d0d0d"/>
                  </a:solidFill>
                  <a:latin typeface="Monotype Corsiva"/>
                </a:rPr>
                <a:t>свойством, а одно этим свойством не обладает. Указать</a:t>
              </a:r>
              <a:r>
                <a:rPr b="0" lang="en-US" sz="5400" spc="-1" strike="noStrike" baseline="30000">
                  <a:solidFill>
                    <a:srgbClr val="0d0d0d"/>
                  </a:solidFill>
                  <a:latin typeface="Monotype Corsiva"/>
                </a:rPr>
                <a:t>, ч</a:t>
              </a:r>
              <a:r>
                <a:rPr b="0" lang="ru-RU" sz="5400" spc="-1" strike="noStrike" baseline="30000">
                  <a:solidFill>
                    <a:srgbClr val="0d0d0d"/>
                  </a:solidFill>
                  <a:latin typeface="Monotype Corsiva"/>
                </a:rPr>
                <a:t>то это за свойство и какое число лишнее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1675"/>
                </a:spcBef>
                <a:buClr>
                  <a:srgbClr val="03612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700" spc="-1" strike="noStrike" baseline="30000">
                  <a:solidFill>
                    <a:srgbClr val="800000"/>
                  </a:solidFill>
                  <a:latin typeface="Times New Roman"/>
                  <a:ea typeface="Times New Roman"/>
                </a:rPr>
                <a:t>18, 102, 33, 44;</a:t>
              </a:r>
              <a:endParaRPr b="0" lang="en-US" sz="6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1851"/>
                </a:spcBef>
                <a:buClr>
                  <a:srgbClr val="03612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400" spc="-1" strike="noStrike" baseline="30000">
                  <a:solidFill>
                    <a:srgbClr val="ffc000"/>
                  </a:solidFill>
                  <a:latin typeface="Times New Roman"/>
                  <a:ea typeface="Times New Roman"/>
                </a:rPr>
                <a:t>25, 49, 30, 64.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 baseline="30000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3" descr="1c8c2557f257bc1fd1c77da928df880e.gif"/>
          <p:cNvPicPr/>
          <p:nvPr/>
        </p:nvPicPr>
        <p:blipFill>
          <a:blip r:embed="rId3"/>
          <a:stretch/>
        </p:blipFill>
        <p:spPr>
          <a:xfrm>
            <a:off x="7480440" y="505296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Заголовок 1"/>
          <p:cNvGrpSpPr/>
          <p:nvPr/>
        </p:nvGrpSpPr>
        <p:grpSpPr>
          <a:xfrm>
            <a:off x="-6480" y="268200"/>
            <a:ext cx="9156960" cy="1158840"/>
            <a:chOff x="-6480" y="268200"/>
            <a:chExt cx="9156960" cy="1158840"/>
          </a:xfrm>
        </p:grpSpPr>
        <p:pic>
          <p:nvPicPr>
            <p:cNvPr id="9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26820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27468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800"/>
              </a:br>
              <a:br>
                <a:rPr sz="4800"/>
              </a:br>
              <a:r>
                <a:rPr b="1" i="1" lang="ru-RU" sz="4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СОВЕТ </a:t>
              </a:r>
              <a:r>
                <a:rPr b="1" i="1" lang="ru-RU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r>
                <a:rPr b="0" i="1" lang="ru-RU" sz="4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ru-RU" sz="4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br>
                <a:rPr sz="4800"/>
              </a:br>
              <a:r>
                <a:rPr b="1" i="1" lang="ru-RU" sz="5400" spc="-1" strike="noStrike" baseline="30000">
                  <a:solidFill>
                    <a:srgbClr val="036122"/>
                  </a:solidFill>
                  <a:latin typeface="Monotype Corsiva"/>
                </a:rPr>
                <a:t>«</a:t>
              </a:r>
              <a:r>
                <a:rPr b="1" i="1" lang="ru-RU" sz="6000" spc="-1" strike="noStrike" baseline="30000">
                  <a:solidFill>
                    <a:srgbClr val="036122"/>
                  </a:solidFill>
                  <a:latin typeface="Monotype Corsiva"/>
                </a:rPr>
                <a:t>Создайте себе окружение из формул».</a:t>
              </a:r>
              <a:br>
                <a:rPr sz="6000"/>
              </a:b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0" y="159984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Monotype Corsiva"/>
              </a:rPr>
              <a:t>Используя приемы рациональных вычислений и таблицы степеней, вычисли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2143080" y="2714760"/>
                <a:ext cx="4224240" cy="41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" name="TextBox 4"/>
          <p:cNvGrpSpPr/>
          <p:nvPr/>
        </p:nvGrpSpPr>
        <p:grpSpPr>
          <a:xfrm>
            <a:off x="5877000" y="2309760"/>
            <a:ext cx="4833720" cy="7702560"/>
            <a:chOff x="5877000" y="2309760"/>
            <a:chExt cx="4833720" cy="7702560"/>
          </a:xfrm>
        </p:grpSpPr>
        <p:pic>
          <p:nvPicPr>
            <p:cNvPr id="101" name="TextBox 4" descr=""/>
            <p:cNvPicPr/>
            <p:nvPr/>
          </p:nvPicPr>
          <p:blipFill>
            <a:blip r:embed="rId2"/>
            <a:stretch/>
          </p:blipFill>
          <p:spPr>
            <a:xfrm>
              <a:off x="5877000" y="2309760"/>
              <a:ext cx="4833720" cy="47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72120" y="2378160"/>
              <a:ext cx="3071880" cy="76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600;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3000;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6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6336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Рисунок 6" descr="2d68c77a0363f4914aac4562ba80b986.gif"/>
          <p:cNvPicPr/>
          <p:nvPr/>
        </p:nvPicPr>
        <p:blipFill>
          <a:blip r:embed="rId3"/>
          <a:stretch/>
        </p:blipFill>
        <p:spPr>
          <a:xfrm>
            <a:off x="-158760" y="5267160"/>
            <a:ext cx="235908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Заголовок 1"/>
          <p:cNvGrpSpPr/>
          <p:nvPr/>
        </p:nvGrpSpPr>
        <p:grpSpPr>
          <a:xfrm>
            <a:off x="208080" y="268200"/>
            <a:ext cx="8485200" cy="1158840"/>
            <a:chOff x="208080" y="268200"/>
            <a:chExt cx="8485200" cy="1158840"/>
          </a:xfrm>
        </p:grpSpPr>
        <p:pic>
          <p:nvPicPr>
            <p:cNvPr id="10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68200"/>
              <a:ext cx="84852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14200" y="274680"/>
              <a:ext cx="8472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ВЕТ 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7</a:t>
              </a: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r>
                <a:rPr b="0" i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4400" spc="-1" strike="noStrike">
                  <a:solidFill>
                    <a:srgbClr val="036122"/>
                  </a:solidFill>
                  <a:latin typeface="Monotype Corsiva"/>
                </a:rPr>
                <a:t>«Постоянно контролируйте  свои действия».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-3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5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 baseline="30000">
                <a:solidFill>
                  <a:srgbClr val="002060"/>
                </a:solidFill>
                <a:latin typeface="Monotype Corsiva"/>
              </a:rPr>
              <a:t>Проверьте самостоятельную работу Незнайки :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92; 2125)=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; 6)=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1"/>
          <p:cNvSpPr/>
          <p:nvPr/>
        </p:nvSpPr>
        <p:spPr>
          <a:xfrm>
            <a:off x="2857680" y="2786040"/>
            <a:ext cx="71424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2"/>
          <p:cNvSpPr/>
          <p:nvPr/>
        </p:nvSpPr>
        <p:spPr>
          <a:xfrm>
            <a:off x="5857920" y="3929040"/>
            <a:ext cx="71424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5"/>
          <p:cNvSpPr/>
          <p:nvPr/>
        </p:nvSpPr>
        <p:spPr>
          <a:xfrm>
            <a:off x="7786800" y="3929040"/>
            <a:ext cx="71424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6"/>
          <p:cNvSpPr/>
          <p:nvPr/>
        </p:nvSpPr>
        <p:spPr>
          <a:xfrm>
            <a:off x="2500200" y="5286240"/>
            <a:ext cx="7146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2786040" y="22147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5857920" y="3214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2500200" y="464328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0" descr="baby18.gif"/>
          <p:cNvPicPr/>
          <p:nvPr/>
        </p:nvPicPr>
        <p:blipFill>
          <a:blip r:embed="rId2"/>
          <a:stretch/>
        </p:blipFill>
        <p:spPr>
          <a:xfrm>
            <a:off x="7572240" y="5092560"/>
            <a:ext cx="1214640" cy="1765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6"/>
              <p:cNvSpPr txBox="1"/>
              <p:nvPr/>
            </p:nvSpPr>
            <p:spPr>
              <a:xfrm>
                <a:off x="4071960" y="3786120"/>
                <a:ext cx="4714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0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Box 21"/>
          <p:cNvSpPr/>
          <p:nvPr/>
        </p:nvSpPr>
        <p:spPr>
          <a:xfrm>
            <a:off x="7643880" y="32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8"/>
              <p:cNvSpPr txBox="1"/>
              <p:nvPr/>
            </p:nvSpPr>
            <p:spPr>
              <a:xfrm>
                <a:off x="0" y="2643120"/>
                <a:ext cx="3643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36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3;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1"/>
          <p:cNvGrpSpPr/>
          <p:nvPr/>
        </p:nvGrpSpPr>
        <p:grpSpPr>
          <a:xfrm>
            <a:off x="-6480" y="268200"/>
            <a:ext cx="9156960" cy="1158840"/>
            <a:chOff x="-6480" y="268200"/>
            <a:chExt cx="9156960" cy="1158840"/>
          </a:xfrm>
        </p:grpSpPr>
        <p:pic>
          <p:nvPicPr>
            <p:cNvPr id="1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26820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27468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i="1" lang="ru-RU" sz="4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СОВЕТ </a:t>
              </a:r>
              <a:r>
                <a:rPr b="1" i="1" lang="ru-RU" sz="4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8</a:t>
              </a:r>
              <a:r>
                <a:rPr b="0" i="1" lang="ru-RU" sz="4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r>
                <a:rPr b="0" i="1" lang="ru-RU" sz="4400" spc="-1" strike="noStrike" baseline="30000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6600" spc="-1" strike="noStrike" baseline="30000">
                  <a:solidFill>
                    <a:srgbClr val="036122"/>
                  </a:solidFill>
                  <a:latin typeface="Monotype Corsiva"/>
                </a:rPr>
                <a:t>«Наведите порядок в цифрах».</a:t>
              </a:r>
              <a:br>
                <a:rPr sz="6600"/>
              </a:b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Содержимое 2"/>
          <p:cNvGrpSpPr/>
          <p:nvPr/>
        </p:nvGrpSpPr>
        <p:grpSpPr>
          <a:xfrm>
            <a:off x="262080" y="1249200"/>
            <a:ext cx="8705880" cy="4962600"/>
            <a:chOff x="262080" y="1249200"/>
            <a:chExt cx="8705880" cy="4962600"/>
          </a:xfrm>
        </p:grpSpPr>
        <p:pic>
          <p:nvPicPr>
            <p:cNvPr id="12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62080" y="1249200"/>
              <a:ext cx="8705880" cy="49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7200" y="1285920"/>
              <a:ext cx="8229600" cy="48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"/>
                </a:rPr>
                <a:t>Олег купил 15 одинаковых шоколадок. Продавец назвал стоимость покупки 348  рублей. Верно, ли посчитал продавец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"/>
                </a:rPr>
                <a:t>Купили 9 м шёлка. Может  ли, покупка стоить 5420 рублей?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Рисунок 3" descr="9c90c60593fafe445f40a8d8c87e034a.gif"/>
          <p:cNvPicPr/>
          <p:nvPr/>
        </p:nvPicPr>
        <p:blipFill>
          <a:blip r:embed="rId3"/>
          <a:stretch/>
        </p:blipFill>
        <p:spPr>
          <a:xfrm>
            <a:off x="4857840" y="5289480"/>
            <a:ext cx="2928960" cy="1568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5:02:40Z</dcterms:created>
  <dc:creator>as</dc:creator>
  <dc:description/>
  <dc:language>en-US</dc:language>
  <cp:lastModifiedBy>Наташа</cp:lastModifiedBy>
  <dcterms:modified xsi:type="dcterms:W3CDTF">2011-01-23T14:29:06Z</dcterms:modified>
  <cp:revision>30</cp:revision>
  <dc:subject/>
  <dc:title>«В математике есть своя красота, как в живописи и поэзии». Н. Е. Жуковский. </dc:title>
</cp:coreProperties>
</file>